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7.png" ContentType="image/pn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20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3086-EE7A-465F-8A08-8A2F090BA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A2E0-BEAA-4CA6-8876-E6A2A999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049E-7914-4EC0-9528-EA0D62EF6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BCF6-6A50-4F97-B5CA-E1E53E8DF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4D83-044A-424B-9E5F-93E8D00C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7A44-15B7-4298-9076-D97C9864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D0B3-09B9-489F-9662-4EB45BB7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1E10-EA07-4B91-B880-09519183D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D9B7-A5E5-4804-B0DD-CAA59AAC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B1EF-8B20-4B99-B861-6D549923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0C02-3610-4B72-8940-BF80F0D6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7BB5-00DA-4A83-8B5E-169EDA49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29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189B-9794-48E1-8F1B-A7EB10033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29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Handwriting"/>
              </a:rPr>
              <a:t>Isabelle Nissen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Lucida Handwriting"/>
              </a:rPr>
              <a:t>Period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973240" y="1523880"/>
            <a:ext cx="329256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29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743200" y="609480"/>
            <a:ext cx="3625920" cy="56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29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4952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Self Portra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33720" y="1828800"/>
            <a:ext cx="493056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29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3352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Ligh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895480" y="1447920"/>
            <a:ext cx="33530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29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666880" y="685800"/>
            <a:ext cx="383544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29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86764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29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4191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E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716292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29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60195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Handwriting"/>
              </a:rPr>
              <a:t>Digital Water Dro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172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29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609588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29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29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01992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29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Pho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592452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29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5715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Partner Portra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819520" y="1600200"/>
            <a:ext cx="337500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29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4114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Lucida Handwriting"/>
              </a:rPr>
              <a:t>B</a:t>
            </a:r>
            <a:r>
              <a:rPr b="0" lang="en-US" sz="4000" spc="-1" strike="noStrike">
                <a:solidFill>
                  <a:srgbClr val="ffffff"/>
                </a:solidFill>
                <a:latin typeface="Lucida Handwriting"/>
              </a:rPr>
              <a:t>aby </a:t>
            </a:r>
            <a:r>
              <a:rPr b="0" lang="en-US" sz="4800" spc="-1" strike="noStrike">
                <a:solidFill>
                  <a:srgbClr val="ffffff"/>
                </a:solidFill>
                <a:latin typeface="Lucida Handwriting"/>
              </a:rPr>
              <a:t>P</a:t>
            </a:r>
            <a:r>
              <a:rPr b="0" lang="en-US" sz="4000" spc="-1" strike="noStrike">
                <a:solidFill>
                  <a:srgbClr val="ffffff"/>
                </a:solidFill>
                <a:latin typeface="Lucida Handwriting"/>
              </a:rPr>
              <a:t>i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361476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29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4876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Holga Cam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18148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29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36400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29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95280" y="1274760"/>
            <a:ext cx="632484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29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Painting with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09680" y="1905120"/>
            <a:ext cx="4759560" cy="38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29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01992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29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Partner Projects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Lucida Handwriting"/>
              </a:rPr>
              <a:t>Poor Depth/Sharp Dep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43200" y="1981080"/>
            <a:ext cx="354168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29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666880" y="990720"/>
            <a:ext cx="399276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29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6019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Cross-Proces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601812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29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1172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04:49:10Z</dcterms:created>
  <dc:creator>Isabelle Nissen</dc:creator>
  <dc:description/>
  <dc:language>en-US</dc:language>
  <cp:lastModifiedBy>C</cp:lastModifiedBy>
  <dcterms:modified xsi:type="dcterms:W3CDTF">2009-05-22T22:05:03Z</dcterms:modified>
  <cp:revision>6</cp:revision>
  <dc:subject/>
  <dc:title>Photograms</dc:title>
</cp:coreProperties>
</file>